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41D3-9822-445F-8D14-0385B3575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453-E0E6-4C06-9A38-CD3F0AB0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8BF9-998B-4C32-88D3-B57CA0F2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0D1-8EF7-4EE1-9AD6-1A164E6B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C67-65A1-400C-834E-E1324752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70D-4B5B-4856-AD8F-967DE0FF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2BC-C09A-4086-B460-67801BBB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776-0C54-4E4C-B01A-FC01B4DB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39D-1983-4800-8158-65FDFC59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42E6-BC12-43FA-A9AD-D0A04FEA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AAF-DFFE-4DEF-A386-6FB4A1F6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9DC-CD8E-479E-9B3D-0F66CD9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1207-7DB4-46E9-BF05-F78AAFDB1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06560" y="126828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«Без сомнения, все наше знание начинается с опыта.»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                                         </a:t>
            </a:r>
            <a:r>
              <a:rPr b="1" i="1" lang="en-US" sz="3200" spc="-1" strike="noStrike">
                <a:solidFill>
                  <a:srgbClr val="000050"/>
                </a:solidFill>
                <a:latin typeface="Times New Roman"/>
              </a:rPr>
              <a:t>И .К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79640" y="1416240"/>
            <a:ext cx="611964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 в в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Как ведёт себя лё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в бенз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Что произойдёт с куском железа, если его опустить в ртут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А если в ртуть поместить золо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0"/>
                </a:solidFill>
                <a:latin typeface="Times New Roman"/>
              </a:rPr>
              <a:t>Покажите поведение пластилина в вод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411280" y="69228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50"/>
                </a:solidFill>
                <a:latin typeface="Times New Roman"/>
              </a:rPr>
              <a:t>Используйте таблицы стр. 50 - 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8000" y="476280"/>
            <a:ext cx="604872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50"/>
                </a:solidFill>
                <a:latin typeface="Times New Roman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§</a:t>
            </a: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Arial"/>
              </a:rPr>
              <a:t> 50, ответить на вопросы, упр. 25 (4,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Сделать подборку загадок, стихов или афоризмов по теме «Сила Архимеда. Плавание тел» (с рисункам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5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50"/>
                </a:solidFill>
                <a:latin typeface="Times New Roman"/>
                <a:ea typeface="Arial"/>
              </a:rPr>
              <a:t>Подготовить сообщение о плавании су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15980" t="345" r="6249" b="0"/>
          <a:stretch/>
        </p:blipFill>
        <p:spPr>
          <a:xfrm>
            <a:off x="7020000" y="4941720"/>
            <a:ext cx="1585800" cy="1559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chool2208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8000" y="1082160"/>
            <a:ext cx="70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ышкин А.В. Физка 7 кл, М., Дрофа,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я плавающих тел http://ebook-teacher.blogspot.ru/2012/03/blog-post_21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fizika.ru/proverka/index.php?mode=proverjalka&amp;theme=02&amp;id=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бражение для оформления слайдов http://allforchildren.ru/pictures/showimg/school22/school2208jpg.ht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5640" y="549360"/>
            <a:ext cx="65516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1. Сила тяжести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2. Сила тяжести направлена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3.  Сила Архимеда определяет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mg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h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ρg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63640" y="981000"/>
            <a:ext cx="5977080" cy="43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4.  Сила Архимеда направлен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А. Вверх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Б. Вниз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В. Горизонт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153e"/>
                </a:solidFill>
                <a:latin typeface="Arial"/>
              </a:rPr>
              <a:t>5. </a:t>
            </a:r>
            <a:r>
              <a:rPr b="1" lang="ru-RU" sz="2400" spc="-1" strike="noStrike">
                <a:solidFill>
                  <a:srgbClr val="00153e"/>
                </a:solidFill>
                <a:latin typeface="Arial"/>
              </a:rPr>
              <a:t>Определите направлени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равнодействующей сил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и </a:t>
            </a:r>
            <a:r>
              <a:rPr b="0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А. Ввер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Б. В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153e"/>
                </a:solidFill>
                <a:latin typeface="Arial"/>
              </a:rPr>
              <a:t>В. Нет правильного ответ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3e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7454880" y="3071880"/>
            <a:ext cx="785880" cy="785880"/>
          </a:xfrm>
          <a:prstGeom prst="rect">
            <a:avLst/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740720" y="2571840"/>
            <a:ext cx="214200" cy="660240"/>
          </a:xfrm>
          <a:prstGeom prst="upArrow">
            <a:avLst>
              <a:gd name="adj1" fmla="val 50000"/>
              <a:gd name="adj2" fmla="val 18250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7740720" y="3357720"/>
            <a:ext cx="214200" cy="1193760"/>
          </a:xfrm>
          <a:prstGeom prst="downArrow">
            <a:avLst>
              <a:gd name="adj1" fmla="val 50000"/>
              <a:gd name="adj2" fmla="val 33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85080" y="2349360"/>
            <a:ext cx="64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65000" y="429264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53e"/>
                </a:solidFill>
                <a:latin typeface="Arial"/>
              </a:rPr>
              <a:t>F</a:t>
            </a:r>
            <a:r>
              <a:rPr b="1" lang="ru-RU" sz="2400" spc="-1" strike="noStrike" baseline="-25000">
                <a:solidFill>
                  <a:srgbClr val="00153e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567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10108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2800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835280" y="1052640"/>
            <a:ext cx="68403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Самопроверка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1-А, 2 – Б, 3 –В, 4 – А, 5 – Б 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Поставить отметку: 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  (лист самооценки)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«5» - все ответы верны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«4» - одна ошибка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«3» - две ошибки;</a:t>
            </a:r>
            <a:br>
              <a:rPr sz="2800"/>
            </a:b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         «2» - более двух ошибок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1323" t="0" r="36258" b="22165"/>
          <a:stretch/>
        </p:blipFill>
        <p:spPr>
          <a:xfrm>
            <a:off x="5292720" y="3500280"/>
            <a:ext cx="345600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16026" t="6414" r="17320" b="4490"/>
          <a:stretch/>
        </p:blipFill>
        <p:spPr>
          <a:xfrm>
            <a:off x="1763640" y="260280"/>
            <a:ext cx="3600360" cy="309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771640" y="119700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547640" y="2421000"/>
            <a:ext cx="6985080" cy="14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206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лавание тел</a:t>
            </a:r>
            <a:endParaRPr b="0" lang="en-US" sz="1800" spc="1" strike="noStrike">
              <a:ln w="0">
                <a:noFill/>
              </a:ln>
              <a:solidFill>
                <a:srgbClr val="00206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63640" y="443700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002060"/>
                </a:solidFill>
                <a:latin typeface="Times New Roman"/>
              </a:rPr>
              <a:t>: Изучить условия плаван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941400" cy="1370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258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00"/>
                </a:solidFill>
                <a:latin typeface="Times New Roman"/>
              </a:rPr>
              <a:t>Динамическая пау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1484280"/>
            <a:ext cx="6912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1, 2, 3, 4, 5 – все умеем мы счит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Раз! Подняться, потя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Два! Согнуться, разогну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Три! В ладоши три хлопка, головою три ки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На четыре – руки ш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Пять – руками помах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20000"/>
              </a:lnSpc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Times New Roman"/>
              </a:rPr>
              <a:t>Шесть – за парту тихо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547640" y="2565360"/>
            <a:ext cx="1897200" cy="2276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211640" y="2637000"/>
            <a:ext cx="188280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588000" y="2637000"/>
            <a:ext cx="1946520" cy="2219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1908000" y="189000"/>
            <a:ext cx="638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зучение условий плавания т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3280" y="5157720"/>
            <a:ext cx="63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</a:rPr>
              <a:t>Вывод по результатам работы сделать  с использованием учебника стр. 120,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170028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50"/>
                </a:solidFill>
                <a:latin typeface="Times New Roman"/>
              </a:rPr>
              <a:t>Цель работы: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выяснить условия плавания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chool220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0" t="0" r="76036" b="0"/>
          <a:stretch/>
        </p:blipFill>
        <p:spPr>
          <a:xfrm>
            <a:off x="1835280" y="476280"/>
            <a:ext cx="174132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>
            <a:lum bright="-6000"/>
          </a:blip>
          <a:srcRect l="34546" t="0" r="41207" b="0"/>
          <a:stretch/>
        </p:blipFill>
        <p:spPr>
          <a:xfrm>
            <a:off x="4356000" y="476280"/>
            <a:ext cx="1760760" cy="2087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68123" t="0" r="6685" b="0"/>
          <a:stretch/>
        </p:blipFill>
        <p:spPr>
          <a:xfrm>
            <a:off x="6732720" y="476280"/>
            <a:ext cx="18302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2924280"/>
            <a:ext cx="777708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50"/>
                </a:solidFill>
                <a:latin typeface="Times New Roman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тон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lt;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яж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ж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&lt;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  <a:ea typeface="Arial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плавает в жидкости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=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 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Тело всплывает, если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F </a:t>
            </a:r>
            <a:r>
              <a:rPr b="1" i="1" lang="en-US" sz="2400" spc="-1" strike="noStrike" baseline="-25000">
                <a:solidFill>
                  <a:srgbClr val="00005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F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я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 или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ж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  <a:ea typeface="Arial"/>
              </a:rPr>
              <a:t>&gt;</a:t>
            </a:r>
            <a:r>
              <a:rPr b="1" i="1" lang="en-US" sz="2400" spc="-1" strike="noStrike">
                <a:solidFill>
                  <a:srgbClr val="00005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50"/>
                </a:solidFill>
                <a:latin typeface="Times New Roman"/>
              </a:rPr>
              <a:t>ρ</a:t>
            </a:r>
            <a:r>
              <a:rPr b="1" i="1" lang="ru-RU" sz="2400" spc="-1" strike="noStrike" baseline="-25000">
                <a:solidFill>
                  <a:srgbClr val="000050"/>
                </a:solidFill>
                <a:latin typeface="Times New Roman"/>
              </a:rPr>
              <a:t>т</a:t>
            </a:r>
            <a:r>
              <a:rPr b="1" i="1" lang="ru-RU" sz="2400" spc="-1" strike="noStrike">
                <a:solidFill>
                  <a:srgbClr val="00005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6127920"/>
            <a:ext cx="802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зарова Наталья Николае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щеобразовательное учреждение средняя общеобразовательная школа  № 13 Североуральский городской округ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5:22:55Z</dcterms:created>
  <dc:creator>User</dc:creator>
  <dc:description/>
  <dc:language>en-US</dc:language>
  <cp:lastModifiedBy>Натка</cp:lastModifiedBy>
  <dcterms:modified xsi:type="dcterms:W3CDTF">2013-03-27T14:08:25Z</dcterms:modified>
  <cp:revision>15</cp:revision>
  <dc:subject/>
  <dc:title>Слайд 1</dc:title>
</cp:coreProperties>
</file>